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CC03-5691-49B3-86B6-D166564AE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215-72C9-448A-AD60-E547895C88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3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7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6D4-BC88-4A75-BC63-AEB1F57BD0A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40" y="6659640"/>
            <a:ext cx="9142560" cy="19836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774720" y="3733920"/>
            <a:ext cx="64008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181480" y="6146640"/>
            <a:ext cx="38862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UMSP</a:t>
            </a:r>
            <a:br>
              <a:rPr sz="2400"/>
            </a:br>
            <a:r>
              <a:rPr b="0" lang="fr-CH" sz="1000" spc="-1" strike="noStrike">
                <a:solidFill>
                  <a:srgbClr val="000000"/>
                </a:solidFill>
                <a:latin typeface="Tahoma"/>
              </a:rPr>
              <a:t>Institut universitaire de médecine sociale et préventive, Lausan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>
              <a:spcBef>
                <a:spcPts val="60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3480" y="1018800"/>
            <a:ext cx="75247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Exploring the association of the CYP1A1-CYP1A2 locus with blood pressure in CoLau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4680" y="2866680"/>
            <a:ext cx="663876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Diana Marek and Murielle Boc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Background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igh blood pressure leads to hypertension, a major modifiable cardiovascular risk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 Switzerland, hypertension affects 1 in 3 ad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ypertension increases the risk of stroke, myocardial infarction and kidney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o far, the exact biological mechanism underlying hypertension is unknown in 95% of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ypertension aggregates in families, which suggests that genes play a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tic association studies are used to identify new blood pressure candidate 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6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Arial"/>
              </a:rPr>
              <a:t>New loci associated with blood pressure</a:t>
            </a:r>
            <a:br>
              <a:rPr sz="2800"/>
            </a:br>
            <a:r>
              <a:rPr b="1" lang="fr-FR" sz="2000" spc="-1" strike="noStrike">
                <a:solidFill>
                  <a:srgbClr val="cc0000"/>
                </a:solidFill>
                <a:latin typeface="Arial"/>
              </a:rPr>
              <a:t>(International Consortium on blood pressure genetics)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8320" y="5918040"/>
            <a:ext cx="63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Ehret et al, Nature 2011, September 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Genome-wide meta-analysis for systolic and diastolic blood pres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039680" y="2014560"/>
            <a:ext cx="7469280" cy="307332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5"/>
          <p:cNvSpPr/>
          <p:nvPr/>
        </p:nvSpPr>
        <p:spPr>
          <a:xfrm>
            <a:off x="4029840" y="507852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264600" y="1455840"/>
            <a:ext cx="228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ignificance of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statistical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5079960" y="161784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29 genetic variants ident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250920" y="5418000"/>
            <a:ext cx="57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66ff"/>
                </a:solidFill>
                <a:latin typeface="Arial"/>
              </a:rPr>
              <a:t>Includes data from the CoLaus study in Lausan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6676920" y="2333520"/>
            <a:ext cx="743040" cy="628920"/>
          </a:xfrm>
          <a:prstGeom prst="ellipse">
            <a:avLst/>
          </a:prstGeom>
          <a:solidFill>
            <a:srgbClr val="f5bbc2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cc0000"/>
                </a:solidFill>
                <a:latin typeface="Arial"/>
              </a:rPr>
              <a:t>29 SNPs genome-wide significant in 28 loci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Content Placeholder 3" descr="04_ICBPresub2_fig1_prefinal.jpg"/>
          <p:cNvPicPr/>
          <p:nvPr/>
        </p:nvPicPr>
        <p:blipFill>
          <a:blip r:embed="rId1"/>
          <a:srcRect l="73174" t="2885" r="0" b="0"/>
          <a:stretch/>
        </p:blipFill>
        <p:spPr>
          <a:xfrm>
            <a:off x="4114800" y="1044720"/>
            <a:ext cx="2293920" cy="54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27" descr=""/>
          <p:cNvPicPr/>
          <p:nvPr/>
        </p:nvPicPr>
        <p:blipFill>
          <a:blip r:embed="rId2"/>
          <a:stretch/>
        </p:blipFill>
        <p:spPr>
          <a:xfrm>
            <a:off x="392040" y="1052640"/>
            <a:ext cx="3657600" cy="54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Rectangle 17"/>
          <p:cNvSpPr/>
          <p:nvPr/>
        </p:nvSpPr>
        <p:spPr>
          <a:xfrm>
            <a:off x="6456240" y="1047600"/>
            <a:ext cx="251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/29 SNPs are in high LD (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 0.8) with a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Calibri"/>
              </a:rPr>
              <a:t>non-synonymous coding S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vidence that the 29 SNPs are enriched for eSN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e phenotypic variance explained by the 29 variants is  ~1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5"/>
          <p:cNvSpPr/>
          <p:nvPr/>
        </p:nvSpPr>
        <p:spPr>
          <a:xfrm>
            <a:off x="0" y="5486400"/>
            <a:ext cx="3848040" cy="295200"/>
          </a:xfrm>
          <a:prstGeom prst="ellipse">
            <a:avLst/>
          </a:prstGeom>
          <a:solidFill>
            <a:srgbClr val="f5bbc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5"/>
          <p:cNvSpPr/>
          <p:nvPr/>
        </p:nvSpPr>
        <p:spPr>
          <a:xfrm>
            <a:off x="0" y="3914640"/>
            <a:ext cx="3848040" cy="295560"/>
          </a:xfrm>
          <a:prstGeom prst="ellipse">
            <a:avLst/>
          </a:prstGeom>
          <a:solidFill>
            <a:srgbClr val="f5bbc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0560" y="323640"/>
            <a:ext cx="83044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0000"/>
                </a:solidFill>
                <a:latin typeface="Arial"/>
              </a:rPr>
              <a:t>Locus 1: association signal with blood pressure at a locus where the causal gene is NOT clear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009800" y="1422360"/>
            <a:ext cx="7369200" cy="4294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3760" y="623556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Ehret et al, Nature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cc0000"/>
                </a:solidFill>
                <a:latin typeface="Arial"/>
              </a:rPr>
              <a:t>Locus 2: the causal gene is NOT clear as well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85800" y="1459080"/>
            <a:ext cx="7772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cc0000"/>
                </a:solidFill>
                <a:latin typeface="Arial"/>
              </a:rPr>
              <a:t>Aims of this projec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analyze the association of two ICBP loci (rs1378942 and rs11191548)  with systolic and diastolic blood pressure in CoLa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search the literature on the 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CYP1A1,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CYP1A2 and CSK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genes and to choose the most likely causal gene for the rs1378942 l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search the literature on the CYP17A1, C10orf32, AS3MT, CNNM2 genes and choose the most likely gene for the .rs11191548 lo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to conduct stratified analyses by selected covariates (the choice of covariates needs to be decided by the group) to confirm the most likely causal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51:57Z</dcterms:created>
  <dc:creator>anpittet</dc:creator>
  <dc:description/>
  <dc:language>en-US</dc:language>
  <cp:lastModifiedBy>mbochud</cp:lastModifiedBy>
  <dcterms:modified xsi:type="dcterms:W3CDTF">2012-02-21T12:48:48Z</dcterms:modified>
  <cp:revision>689</cp:revision>
  <dc:subject/>
  <dc:title>Présentation PowerPoint</dc:title>
</cp:coreProperties>
</file>